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E3F1-10D3-47B3-9AC1-418AFDD4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33C-6B35-4B7F-A20A-0C13E86B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077D6-A230-4D08-A5DA-517FC266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B5803-9B05-41C8-832F-A2D230A9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AE754-54E9-4682-99F4-49ABAC97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0FC98-8D8E-45DE-93E1-2EA5874D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F23C7-3B20-4FB2-B1C6-CA61F825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DD3E7-5B6F-4B29-89A3-F384DB1C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D926A-0306-4A91-8715-7E0AB881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0D2EA-19A0-41CE-916E-F4893563A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B47C3-1E64-456A-B53B-9C42432B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23A73-D217-439F-B5C4-5BC454B8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447C-1265-48E2-8D25-6DEC45CE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44306-85B0-4FB6-8ECF-D873BD69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4F973-CE8F-4F6E-82FD-248B7959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9FFE6-51CF-445E-A2B4-4AE9520A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7CAE9-52AA-4CF7-B70B-9D8A730C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E5303-C63E-416B-AB54-F3240146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60E6A-6D71-4BD7-91EB-024C0279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1BD24-450D-4B64-BEDC-0C5F559B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C1E9C-ED9A-4F8E-B346-DE623300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885C2-A41C-4F11-AA37-9EF10953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D2CEF-1366-43FE-9F6A-2327A30F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18DC-FE7B-42D0-8703-AE2A48D9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6C225-A4F9-4382-9387-2262BC48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49466-78D9-44F0-A788-31631106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35EC1-41F3-4CA0-B5A6-F09F4AD3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EAD61-36EC-464D-9808-4CB195D5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6F83A-F5F3-4324-A0F4-1CE2852C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BBF49-62F8-451E-A671-65598A0F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E972E-C0FB-4904-A3B8-987B9484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A4CBD-344C-4817-BAB2-B29927D0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3D588-03AA-458E-81CD-27CC5C3F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F235E-9282-4E1B-8767-32A3379A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E310-405F-4A20-9670-B845470C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44E0B-78D2-4B65-8226-8C4E5D78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B7143-829C-462F-A2B9-8C0EE8FD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CA130-04AC-4947-A988-0E3B83F0A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3270D-99B2-413D-8073-6986B92B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A27AD-3D64-475C-B2EF-B415C786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A507F-346E-4F12-A052-AD4ABE1A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244EE-1F1B-49C0-8C45-F443FA83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E949D-D975-4FF5-96C6-1E99CAB8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2300B-DE24-4856-B7A7-129DB38D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F6A80-D8EE-4197-99C2-D0A53061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63E4-C87A-4551-A0BC-456B091F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59147-3F48-4A37-9CB8-3789A5D5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543C4-3E89-4B16-A5AA-5CE01347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9234F-7FE2-4619-A32F-8B5CE40F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BCE6C-F64A-4679-AC64-419396F9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73FB0-4DA2-4DAB-8C0A-1517C527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E4B82D-9B47-432A-98F6-9435CA6E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F5208F-A3D6-45F8-8DE2-5EAA4532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BDD837-C718-4D1B-9B7D-51EE63B5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71651-64CA-4763-99CE-56E08B4B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27F605-52BF-4AD1-AA9C-7F4EAB2B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3B2E-4D89-4F07-8DA7-3895BFA5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811EF1-F87F-491F-9B1C-3CA62E45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A753C6-B824-4986-A3F8-0C73E002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2BA211-6339-40FF-BFE5-B777C2A2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58BEDD-F24A-45E6-B2DE-C1C83E2E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D2565-F014-4F39-9A14-2B300315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177CB7-2CE9-4FBA-B409-39025CF4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10E351-F4F1-430F-B38F-CF3BBA4B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2696F2-0E5D-44F9-9A0F-7A8028C3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5594E1-6A43-4953-83BD-EEEB0264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474EFE-DD2C-4B23-AEEF-FA08B71C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CA2F-B932-43E7-93B0-030D706C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0BD08C-35C3-4DA6-8727-33617D6C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00BE43-FBEA-4B35-90A0-F71A1DAB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09B7C4-A6E1-4597-9AE1-DD0096B8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ACCF10-8383-4356-BB3E-005433BE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0C6CE6-AE0E-4209-8C85-AABE6FD6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74CAFF-D630-4842-B0CB-1DCCACF3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7A8C75-2122-45C5-8542-499829EE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3E9DE4-CF84-48EC-AAA9-98AC94E6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ECFC06-4192-48A7-8EE3-23F09C93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9347-AA68-4A10-BF06-5C321BAC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0229-1B7B-4172-A406-C6F7DB89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9382-F0DA-47C9-8D81-DB80A3B9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8F59-1F58-4C54-AC60-53687A88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9707-9F93-4971-8F02-9D600CE3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7C58-3845-48B4-ABD3-1925CA32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5D5E-B885-4908-982E-C1877A87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CF56-5322-46D4-9497-9CFB67D2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23A2-C1C7-4678-9B4A-9E2A3A31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8443B-B15B-47F5-B28B-7657A1E7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55D57-3DBC-40C4-99D0-9E167DC0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B7287-5AEF-4A83-8D04-5F1FA21B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D885A-D832-46A2-BBA2-A13E6894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3DF8C-912A-4173-B9D3-423E570C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55A7-73AF-467D-8971-FC7ABD5F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21BCB-7506-435B-81F3-8B867873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FCA3D-E186-40EC-8DC4-2FBC9766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64B53-5F88-460A-B402-DB5E27F6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49603-1DF4-4230-B91D-BDBB6B99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383D9-340C-4B02-80BE-8882E853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C60FC-5B36-4829-A401-407A5B1A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C5A44-F725-45BE-9A5A-66CE40AA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BB670-C8E0-4715-BD51-4792AC05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202E4-EF24-482A-9361-9981392F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31884-1BBA-4F9A-8A74-D8DA992C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5DCC-C5A2-4478-97F8-C7CBDEB9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BBAFA-C730-4CF3-960C-43E4C301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9962E-996D-407B-8C68-BF602F1C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E582E-90D9-45EC-9661-5F1F015F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7CC6D-CF18-4A53-8CD7-D353746D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F4FD5-B5E8-4A77-9EBC-F2E111B8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40CB7-B48E-4BEB-8E23-34E745A2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3D1AE-A57C-4284-B42F-1AA5157A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8E49A-909A-48FC-81C3-6DDB368D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86619-0061-4179-AA4C-C7E73460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48CF7B-2DE3-4BDC-92A1-2F8A0832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CA6F-C6DF-4F33-B086-63A35050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34C90F-83C1-49F7-9724-B74E646B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CFBE77-4426-497D-BA41-EA7EB7AC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2D9437-8E9B-46A1-B688-B92698DA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C23181-C791-448E-A156-066CAFAD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A33308-A51D-48D8-9FF5-037D7301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A6BE56-5F59-4880-964C-800A730D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F5BA8C-1937-4366-B3E3-631ADA51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5809AB-D20F-4C66-8127-C65FAD9B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880F11-37BE-49BD-9C0A-01CD0E88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322ACA-8AC1-4867-B814-D62908B3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91D0-882C-4967-A85D-A74EE905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09CA47-6DF7-45D7-B094-D6037DAE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4D15C-D887-4999-83ED-FFC92F62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76B86-91DB-4ED3-8B08-DBF3E700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3229B-B9AD-4804-A451-C22B83DC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12EBE-F69F-4ED9-A0A9-3138FB06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30528-CB7D-49CB-A0DC-3D187CD2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0FD50-D7B3-4DB1-BACE-5C26DC66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AAF16-FDA6-4EC9-BD3E-DF4D1B30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2E976-8DED-4A38-833E-FA97ADD8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60151-4D29-43E5-ACCF-310CF004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7474-10D0-49B8-A88E-0FC9CB7E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92131-A2B3-4AB5-8EF8-07BC7BA6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C2FD1-5E4D-40DB-AE5E-03C064EC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2A3C0-A8FD-4F01-8273-483BE62E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DCF86-FF6D-4A68-806A-04780A35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B3ADD-7E16-43D5-BCB7-2CF9B150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BEAD2-E6CC-4EBD-9A19-34CE7E34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9FF58-1FFF-4B76-8F09-E1869AE9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5C864-2F36-467E-9EE3-B5FBF28A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E6D9E-E106-469D-A96F-FB5EEC40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63FC1-BFA1-49C8-ADEA-C556F876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7417-ACC3-4308-96AC-37CFA807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DED9B-D09F-4A7F-BED1-F07ED644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8612A-7412-4DED-86F6-27E6A2F3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3E319-5C13-4C11-B818-4D29DCE4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9B2DC-2E86-4B4C-B419-22CDD6E9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273F5-328F-4929-BD7F-36ED3B2B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FD788-B6BC-4F3E-ACB4-2C370729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C9526-16E3-4C9D-87B9-61F9EBCB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5AFE2-D74C-465D-886B-9E39CCD4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09049-EE2E-4A18-9EFF-FCC77724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FB52C-5901-4414-ACB9-46A0C784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75A-7A31-46EF-8537-8B4A811A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9471C-3677-4737-8E33-F0DF077A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B6E2C-E06E-4ECA-8CAA-2BB490C8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4D525-348B-425A-8ADD-72908B0C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79352-E1CF-4EDB-BE3D-543A047A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46D5D-292A-4EFC-8E20-3A401FF9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C35D8-D564-4598-B296-E4F26B23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D76E3-4963-48B9-A1A2-EA922DE8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36E69-DDF1-4370-B45F-552E4E6C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F998F-2D0B-4081-ACA3-4FCD0395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7F185-687D-4DD2-9E7C-7A028067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4542-FE4E-43C8-8BBC-EA87806F4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8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2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8949-89CB-4CC9-8A57-6C5919AF58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668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3F6D-414A-47DA-959F-BC9E092143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713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9A48-3A47-41DA-B5EE-44B6CEDDF7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57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6BED-4D60-4AF2-9B19-6DF2CD169C0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01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3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E0E1-E5AA-466A-B1F7-AC9BD4135A3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5F26-B9ED-4FFE-B078-8B0BC9D71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7666-77B0-413F-9A45-D8FC252B1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7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FEEC-B2D1-4184-87F0-C34AAC535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5EF4-AFDB-445F-BF10-ECDA51CC95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2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6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4BDE-5DF0-4CCC-A0B3-F8ED84FBDC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1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2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3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4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5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F331-BB24-45DB-9F8F-D02E640240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1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1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2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3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3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5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293F-7AB0-46EA-A1AA-465D468054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07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544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1DBD-D0D4-4E11-A7B8-7681412531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4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5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6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7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8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9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10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11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12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13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14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15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16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17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18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19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20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21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22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23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24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25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26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27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28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29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30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31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32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33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34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35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36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37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38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39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40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41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42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43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44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45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46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47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48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49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50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51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52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53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54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55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56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57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58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59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60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61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62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63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64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65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66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67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68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69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70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71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72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73" Type="http://schemas.openxmlformats.org/officeDocument/2006/relationships/hyperlink" Target="http://natalymore.blog.ru/?year=2009http://www.li.ru/interface/pda/?jid=1807142&amp;pid=85025168http://dic.academic.ru/dic.nsf/dic_biology/3668/&#1053;&#1045;&#1055;&#1040;&#1056;&#1053;&#1054;&#1050;&#1054;&#1055;&#1067;&#1058;&#1053;&#1067;&#1045;" TargetMode="External"/><Relationship Id="rId74" Type="http://schemas.openxmlformats.org/officeDocument/2006/relationships/image" Target="../media/image3.png"/><Relationship Id="rId75" Type="http://schemas.openxmlformats.org/officeDocument/2006/relationships/hyperlink" Target="http://forums.zooclub.ru/showthread.php?t=3058&amp;page=2" TargetMode="External"/><Relationship Id="rId76" Type="http://schemas.openxmlformats.org/officeDocument/2006/relationships/image" Target="../media/image3.png"/><Relationship Id="rId77" Type="http://schemas.openxmlformats.org/officeDocument/2006/relationships/hyperlink" Target="http://www.fantbook.info/book14.html" TargetMode="External"/><Relationship Id="rId78" Type="http://schemas.openxmlformats.org/officeDocument/2006/relationships/image" Target="../media/image3.png"/><Relationship Id="rId79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акие виды животных исчезли, стали редкими на Земле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хипова Я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«а»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ыктывк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009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1"/>
          <a:stretch/>
        </p:blipFill>
        <p:spPr>
          <a:xfrm>
            <a:off x="3419640" y="1557360"/>
            <a:ext cx="5025960" cy="40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1360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Monotype Corsiva"/>
              </a:rPr>
              <a:t>ЦЕЛЬ НАШЕГО ИССЛЕДОВАНИЯ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ыяснить причины исчезновения некоторых животных на нашей плане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ЗАДАЧИ НАШЕГО ИССЛЕДОВАНИЯ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знакомиться с видами исчезнувших животны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знакомиться с редкими видами животны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смотреть меры борьбы  с  исчезновением этих животны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Каких животных уже не существует в природе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аблезубый тиг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Мамон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Чепрачный тапи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Индийский носорог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5027760" y="1984320"/>
          <a:ext cx="3587760" cy="26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7760" y="1984320"/>
                    <a:ext cx="3587760" cy="26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9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то был предком домашней лошади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2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П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4016520" y="1773360"/>
            <a:ext cx="3614760" cy="32734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Животные, которых не приручить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2666880" y="2427120"/>
            <a:ext cx="3810240" cy="287676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onotype Corsiva"/>
              </a:rPr>
              <a:t>ВЫВОДЫ</a:t>
            </a:r>
            <a:br>
              <a:rPr sz="40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Для сохранения отдельных видов животных в настоящее время создаются все благоприятные условия: заповедники, заказники, зоопар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В нашей республике также имеются заповедные места: Югыд Ва- национальный парк, Печоро - Илычский заповедник, множество станций юннатов, 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1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писок используемой литератур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Материалы на печатной основе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7d47d"/>
                </a:solidFill>
                <a:latin typeface="Arial"/>
              </a:rPr>
              <a:t>Биология. Животные</a:t>
            </a: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. </a:t>
            </a:r>
            <a:r>
              <a:rPr b="0" i="1" lang="ru-RU" sz="2000" spc="-1" strike="noStrike">
                <a:solidFill>
                  <a:srgbClr val="f7d47d"/>
                </a:solidFill>
                <a:latin typeface="Arial"/>
              </a:rPr>
              <a:t>Учебное пособие для учащихся 7 классов. Под ред. В. Г. Бабенко. Москва, издательский центр «Вентана-Граф»,2002 год,304с. Большая школьная энциклопедия, том 1, под ред. А. А. Орлова. М.:2004г, 704с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Интернет, ресурсы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3"/>
              </a:rPr>
              <a:t>http://natalymore.blog.ru/?year=2009http://www.li.ru/interface/pda/?jid=1807142&amp;pid=85025168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4"/>
              </a:rPr>
              <a:t>http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5"/>
              </a:rPr>
              <a:t>://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6"/>
              </a:rPr>
              <a:t>dic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7"/>
              </a:rPr>
              <a:t>.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8"/>
              </a:rPr>
              <a:t>academic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9"/>
              </a:rPr>
              <a:t>.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10"/>
              </a:rPr>
              <a:t>ru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11"/>
              </a:rPr>
              <a:t>/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12"/>
              </a:rPr>
              <a:t>dic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13"/>
              </a:rPr>
              <a:t>.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14"/>
              </a:rPr>
              <a:t>nsf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15"/>
              </a:rPr>
              <a:t>/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16"/>
              </a:rPr>
              <a:t>dic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17"/>
              </a:rPr>
              <a:t>_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18"/>
              </a:rPr>
              <a:t>biology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19"/>
              </a:rPr>
              <a:t>/3668/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20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21"/>
              </a:rPr>
              <a:t>0%9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22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23"/>
              </a:rPr>
              <a:t>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24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25"/>
              </a:rPr>
              <a:t>0%95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26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27"/>
              </a:rPr>
              <a:t>0%9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28"/>
              </a:rPr>
              <a:t>F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29"/>
              </a:rPr>
              <a:t>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30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31"/>
              </a:rPr>
              <a:t>0%90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32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33"/>
              </a:rPr>
              <a:t>0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34"/>
              </a:rPr>
              <a:t>A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35"/>
              </a:rPr>
              <a:t>0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36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37"/>
              </a:rPr>
              <a:t>0%9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38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39"/>
              </a:rPr>
              <a:t>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40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41"/>
              </a:rPr>
              <a:t>0%9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42"/>
              </a:rPr>
              <a:t>E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43"/>
              </a:rPr>
              <a:t>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44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45"/>
              </a:rPr>
              <a:t>0%9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46"/>
              </a:rPr>
              <a:t>A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47"/>
              </a:rPr>
              <a:t>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48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49"/>
              </a:rPr>
              <a:t>0%9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50"/>
              </a:rPr>
              <a:t>E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51"/>
              </a:rPr>
              <a:t>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52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53"/>
              </a:rPr>
              <a:t>0%9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54"/>
              </a:rPr>
              <a:t>F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55"/>
              </a:rPr>
              <a:t>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56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57"/>
              </a:rPr>
              <a:t>0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58"/>
              </a:rPr>
              <a:t>AB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59"/>
              </a:rPr>
              <a:t>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60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61"/>
              </a:rPr>
              <a:t>0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62"/>
              </a:rPr>
              <a:t>A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63"/>
              </a:rPr>
              <a:t>2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64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65"/>
              </a:rPr>
              <a:t>0%9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66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67"/>
              </a:rPr>
              <a:t>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68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69"/>
              </a:rPr>
              <a:t>0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70"/>
              </a:rPr>
              <a:t>AB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71"/>
              </a:rPr>
              <a:t>%</a:t>
            </a:r>
            <a:r>
              <a:rPr b="0" i="1" lang="en-US" sz="2000" spc="-1" strike="noStrike" u="sng">
                <a:solidFill>
                  <a:srgbClr val="f0b854"/>
                </a:solidFill>
                <a:uFillTx/>
                <a:latin typeface="Arial Unicode MS"/>
                <a:hlinkClick r:id="rId72"/>
              </a:rPr>
              <a:t>D</a:t>
            </a:r>
            <a:r>
              <a:rPr b="0" i="1" lang="ru-RU" sz="2000" spc="-1" strike="noStrike" u="sng">
                <a:solidFill>
                  <a:srgbClr val="f0b854"/>
                </a:solidFill>
                <a:uFillTx/>
                <a:latin typeface="Arial Unicode MS"/>
                <a:hlinkClick r:id="rId73"/>
              </a:rPr>
              <a:t>0%95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0b854"/>
                </a:solidFill>
                <a:uFillTx/>
                <a:latin typeface="Arial"/>
                <a:hlinkClick r:id="rId75"/>
              </a:rPr>
              <a:t>http://forums.zooclub.ru/showthread.php?t=3058&amp;page=2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0b854"/>
                </a:solidFill>
                <a:uFillTx/>
                <a:latin typeface="Arial"/>
                <a:hlinkClick r:id="rId77"/>
              </a:rPr>
              <a:t>http://www.fantbook.info/book14.htm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http://www.zooclub.ru/zanim/1.shtm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4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2:40:06Z</dcterms:created>
  <dc:creator>User</dc:creator>
  <dc:description/>
  <dc:language>en-US</dc:language>
  <cp:lastModifiedBy>User</cp:lastModifiedBy>
  <dcterms:modified xsi:type="dcterms:W3CDTF">2009-11-22T09:04:02Z</dcterms:modified>
  <cp:revision>9</cp:revision>
  <dc:subject/>
  <dc:title>Какие виды животных исчезли, стали редкими на Земле?</dc:title>
</cp:coreProperties>
</file>